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BC98-3B08-430A-A7A4-DFBECF4C4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iew slides 23 through 26 with your participants so they know what options they can choose from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a project from an existing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eeing Reaso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project (slide 23)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reate a new project from scratch (slides 24-2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team IDs with the wizard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reate specialized team IDs (slide 2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 will go more in-depth into these in a few p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A6B0-CB51-45BF-898F-ADAEE1E41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70B2F-1A31-4F0F-B8D7-1EE42F942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456B-B00A-4246-8CA6-46260A3AF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C104F-6B61-42A4-AD26-55C984F89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FF60-755D-4549-BB61-FB0B78AFD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03E1-B042-4997-957B-D70CA4D52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1112-5D0C-400A-8B9D-15087D30B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B0DD-99E1-4C8A-9B8C-1F30E25EA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485A-306E-434B-9009-B336CDE25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5257-ADB9-43F7-BC3A-BCC875068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3800-262C-4181-B069-E47E81E8E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C349-3D2C-4BC0-A252-4ABBC1499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D723-356C-472C-BB02-8AB49015735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30320" y="63705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9 Intel Corporation. All rights reserved. Intel, the Intel logo, Intel Education Initiative, and the Intel Teach Program are trademarks of Intel Corporation in the U.S.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1880" y="2152800"/>
            <a:ext cx="8301240" cy="25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c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5c00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howingevidence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howingevidence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howingevidence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u/showingevidence" TargetMode="External"/><Relationship Id="rId2" Type="http://schemas.openxmlformats.org/officeDocument/2006/relationships/hyperlink" Target="http://www.intel.com/education/showingevidence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9388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41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 Teach Program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559908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Verdana"/>
              </a:rPr>
              <a:t>Version 2 </a:t>
            </a:r>
            <a:endParaRPr b="1" lang="en-US" sz="1800" spc="-1" strike="noStrike">
              <a:solidFill>
                <a:srgbClr val="ff5c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Argumenta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etting Up Expectations for an Argument – </a:t>
            </a:r>
            <a:br>
              <a:rPr sz="1800"/>
            </a:b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06–9.0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derstand the parts of an argumen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aim: What you are trying to prove or persua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idence: Facts or data that support or oppose a clai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Quality of the evid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the source reliable and credible?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accurate is the evidenc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trength of the evidence to support or oppose the claim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soning for why the evidence supports or opposes the clai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82AB-861D-4079-95BB-A2197DF8B3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8: Using the Showing Evidence Tool to Target Thinking Skills</a:t>
            </a:r>
            <a:br>
              <a:rPr sz="12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Argumenta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Reviewing a Sample Case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9.09–9.1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the Unit Summary and Curriculum Framing Question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 to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b site: 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howing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roject Exampl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, click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Unit Plan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, and then click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pace: Why do we explo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the questions with a partner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A68A-ED0C-4D50-B03C-FE2A25F4A4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Argumenta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 Discussing Rating Rubrics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11–9.1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Evaluation of Evidence Quality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n page 9.1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would this rubric help students to better rate and evaluate evidenc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types of elements you would want to include in a rubric for your own subject area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Evaluation of the Evidence Strength on page 9.14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ow would this rubric help students build a better argument?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is important about evidence that opposes a claim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at other criteria and qualifiers you would want to include for your own subject area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A868-43D7-4FE9-92D1-AB78B3469E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Argumenta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5: Determining Acceptable 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9.1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subject areas required different evid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will you incorporate the idea of considering the intended audience when making an argument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is the lowest acceptable number of source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ould all evidence be considered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o you expect direct quote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ill you require a minimum number of quote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C18E-3619-45CD-9F13-955EC41092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Argumenta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6: Evaluating the Claim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9.16–9.1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the Evaluation of Claim rub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about poor quality evidence that strongly supports a clai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about a lot of so-so support?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would you weigh quantity in comparison to qualit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can you relate the process of a jury decision to the evaluation of a clai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ould you make any changes to the rubric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12F7-609B-4AE4-A45D-3607399CD5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Argumenta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7: Making a Conclus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9.1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place where students can answer the case ques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other ways can the conclusion area be used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8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eviewing the Benefits of the Showing Evidence Too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1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the benefits of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816C-075B-45D3-B9AB-D3B999A2FD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375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8432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Reviewing the Power of the Showing Evidence Tool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9.20–9.21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derstand the use of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s classified by Marzano’s Dimensions of Learn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E4C4-70B6-4BA9-A2FF-2B4102783B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523880"/>
            <a:ext cx="8237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Understanding What Makes a Good Showing Evidence Project (including group discussion)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22 – 9.2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lps student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aly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ok at the big pictu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earch hypothe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ok at different perspectiv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vestigate social issu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aluate credi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rganise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bate controversial issu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corporat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lements of a controversial issue, debatable topic, or moral or ethical dilemm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ngaging, thought provoking, and open-ended questions or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portunities for exploring conflicting 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A127-B3E2-4556-AB22-4E617FB4D3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375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Viewing Sample Projec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2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 to: 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howing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roject Exampl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nd then click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Unit Plan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en the 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Romeo and Julie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Unit Pla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lore the live version of this cas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f time is available, review any additional example projects on your own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B9B0-F5FA-4F90-B789-F966A3D8B9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3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ewing Project Idea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37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 Thinking About Your Unit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2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rainstorm Idea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ider skimming web sites for ide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 a list of possible top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0104-2D46-40BB-91A1-EB70ADA2D0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Were 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838080"/>
          <a:ext cx="8610840" cy="4459320"/>
        </p:xfrm>
        <a:graphic>
          <a:graphicData uri="http://schemas.openxmlformats.org/drawingml/2006/table">
            <a:tbl>
              <a:tblPr/>
              <a:tblGrid>
                <a:gridCol w="1833840"/>
                <a:gridCol w="67770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argeting Thinking in the Classroo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2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esigning Proje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3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ng Curriculum Framing Questions to Suppor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4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44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5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Visual Ranking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6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7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8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5080" indent="-23508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e a practice </a:t>
                      </a:r>
                      <a:r>
                        <a:rPr b="0" i="1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eeing Reason</a:t>
                      </a: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causal ma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5080" indent="-23508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iscuss and practice effective questioning techniqu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5080" indent="-23508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ovide and receive feedback on project ide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800F-B512-4FD3-A709-5A522B940E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4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rifying Project Ideas for Using Showing Evidenc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82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Reviewing the Needs of Your Unit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26–9.2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your Unit Plan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your “Teaching and Learning Taxonomy.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the standards you identified as ones that could possibly benefit from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ntify or consider new objectives that could be supported by the use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Note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f you do not believ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ould be a good fit for your unit, you will have the opportunity to try out an idea for a different unit during this modul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218B-0ADF-4B28-BCD3-55FC56ADB8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0787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2: Viewing Sample Project Descriptions and Prompt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–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27–9.30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ew examples for how to write your 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HelveticaNeue-Light"/>
              </a:rPr>
              <a:t>For more examples, see ideas in Appendix 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80880" y="482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4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rifying Project Ideas for Using                  Showing Evidenc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271D-A763-471B-8D51-086D46EDC8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9440" y="48708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5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haring Your Ideas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9.31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828800"/>
            <a:ext cx="85345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60a8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hare your ideas for a project incorporating th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Showing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Evidenc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vide feedback on ways to target higher order thinking skil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399960">
              <a:lnSpc>
                <a:spcPct val="100000"/>
              </a:lnSpc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704E-6C32-4A22-B9FB-7126C5C319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5848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828800"/>
            <a:ext cx="8237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1: Considering How Best to Use the Tool  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32 – 9.33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tudents can use one of two usage models as they evaluate claims and evidenc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age Model 1: Create claims and support with evidenc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age Model 2: Analyse evidence to make a claim or form a hypothes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E8FD-4E7E-4808-81E4-FB70385D7F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375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Creating a Showing Evidence Project from an Existing Projec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9.33–9.3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the project wizard to copy an existing projec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your Curriculum Framing Questions, project priorities, and the Project Reflection Checklist, and then edit the project onlin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py the details into your Unit Pla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2ff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lete Steps 3 through 5 to create a new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ject (see next two slides)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B074-EF0D-47D0-B270-DC1AF23E61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447920"/>
            <a:ext cx="8237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 Creating Your Own Project Description and Promp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35 – 9.3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en the Unit Plan template and review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rriculum Framing Ques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priorities on pages 2.18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2.2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eview the Project Reflection Checklist on page 10.07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Rubric on page 2.15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2.16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aft the Project Description and Prompt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your map or type them directly into your Unit Pla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Note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use is not appropriate for your unit,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Idea document available in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Thinking Tool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eeing Reason Tool Resourc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lder on the resource file si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D451-DC96-4A62-B27F-03187025B5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4: Planning Your Use of Showing Evidence 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37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pen your Unit Plan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d the following to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section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Tit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Descri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90400" indent="-34272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mp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0">
              <a:spcBef>
                <a:spcPts val="7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762f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ject Idea document available in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Thinking Tools, Seeing Reason Tool Resourc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lder on the resource file si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5EFB-4D13-4EFF-A5B8-214673E218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5: Creating a New Showing Evidence Project 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37–9.3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o to: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howingeviden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Ent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n 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eacher Workspa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nter your teacher ID and password, and then 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Login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82680" indent="-381240"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the Manage Projects section, click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et up a new Showing Evidence projec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34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32CD-4DF1-4F0F-A4C8-1B4D9E3087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6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anning Your Project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12952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6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reating Teams IDs with the Project Wizard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38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llow instructions to use the project wizard to create team I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t least two teams for the practice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ign a reviewing team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buNone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7: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reating Specialized Student Team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Module 9.39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llow instructions to enter team IDs individu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reate at least two teams for the practice projec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ign a reviewing tea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fter creating team IDs, record your team IDs and password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ep 8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hanging Showing Evidence Label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–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40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DEAB-298D-40C2-88EE-109C673095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Extension Activity 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derstanding Best Practices with Showing Evidence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41</a:t>
            </a: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860a8"/>
                </a:solidFill>
                <a:latin typeface="Verdana"/>
              </a:rPr>
              <a:t>Step 1 – Viewing Instructional Strategie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Go to 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u/showingevidence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Select Instructional Strategies and review categories of interest including Planning a Project, Implementing a Project, Assessing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View resources and articles on the Toulmin Model of Argument and other information on evaluating arguments available from www.tmd.com.au/education/thinking/resour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860a8"/>
                </a:solidFill>
                <a:latin typeface="Verdana"/>
              </a:rPr>
              <a:t>Step 2 – Viewing Visual Ranking Project Idea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Go to </a:t>
            </a:r>
            <a:r>
              <a:rPr b="0" lang="en-AU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intel.com/education/au/showingevidence</a:t>
            </a: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860a8"/>
                </a:solidFill>
                <a:latin typeface="Verdana"/>
              </a:rPr>
              <a:t>Select Project Examples, and review projects that integrate the Showing Evidence Tool in either Project Ideas or Unit Pla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B19E-30E3-43A7-9D6C-DF33CB09E8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</a:t>
            </a:r>
            <a:br>
              <a:rPr sz="2400"/>
            </a:b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dule 9 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Using the Showing Evidence Tool to Target Thinking Skill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derstand how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upports the argumentation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rate evid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best uses for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 up a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proj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B10C-DD68-46E7-80EA-1508ADCD57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400"/>
            </a:br>
            <a:br>
              <a:rPr sz="12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9 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Summary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26960" y="1866960"/>
          <a:ext cx="8237520" cy="380988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44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9 Key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336132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search shows that, regardless of grade level or subject, argumentation skills extend lear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173160" indent="-171720">
                        <a:spcBef>
                          <a:spcPts val="799"/>
                        </a:spcBef>
                        <a:buClr>
                          <a:srgbClr val="0860a8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he argument model used by </a:t>
                      </a:r>
                      <a:r>
                        <a:rPr b="0" i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howing Evidence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consists of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aking a clai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oviding evid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valuating the quality of evid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aking explicit links between a claim and evid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oviding reasoning for why evidence supports a clai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counterargu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2" marL="396720" indent="-149040">
                        <a:spcBef>
                          <a:spcPts val="400"/>
                        </a:spcBef>
                        <a:buClr>
                          <a:srgbClr val="0860a8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aking a conclu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F3B9-1AAB-4077-B2EA-CD192F9D5E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387360"/>
            <a:ext cx="82375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Next Modul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10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nsidering the Showing Evidence Tool for Your Un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 a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effective questioning techniqu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se cases and Unit Pla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s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experien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BDD9-7820-4175-8865-91B210F9BB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65480" y="2084400"/>
            <a:ext cx="4500360" cy="22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F00D-B598-4F83-ACEB-82EC84C1CD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ere We Are Going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0880" y="1066680"/>
          <a:ext cx="8237520" cy="1539720"/>
        </p:xfrm>
        <a:graphic>
          <a:graphicData uri="http://schemas.openxmlformats.org/drawingml/2006/table">
            <a:tbl>
              <a:tblPr/>
              <a:tblGrid>
                <a:gridCol w="1830240"/>
                <a:gridCol w="64072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0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odule 1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mpleting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534A-19A1-4B04-9D31-EB0F9AF4BF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Module 9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ing the Showing Evidence Tool to Target Thinking Skills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1120" y="152388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54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Objecti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iew and discuss a unit that integrates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derstand the format of an argument and how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supports the argumentation proces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nderstand how to review and rate evidenc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ss best uses of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ew and discuss ideas for incorporating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nto your un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velop and share a project idea that use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t up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roject onli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352520"/>
            <a:ext cx="4091040" cy="409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57F4-E295-43FD-A12D-2A726955A1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ooking at Showing Evidence in Ac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Considering Argumentation in the Classroom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–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01–9.02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epares students for real-world problem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lps students develop higher order thinking skill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creases students’ content knowledg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ncourages thoughtful student discuss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9086-AA6D-4541-9BD8-49F70E2FE2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ooking at Showing Evidence in Ac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2: Taking a Look at the Format of an Argument –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02–9.04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aim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idence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Quality of evidence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inks between the claim and evidence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soning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unterargu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69BD-A032-447C-83D8-A63A1FB4B3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1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ooking at Showing Evidence in Ac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928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3: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Look Closely at Your Showing Evidence Case – </a:t>
            </a:r>
            <a:br>
              <a:rPr sz="1800"/>
            </a:b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.04–9.05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Focus on the elements of an argument and discuss your initial experience with the 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Showing Evidenc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Too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information would you have liked to know prior to starting your work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what ways did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howing Evidence Too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help you to refine and evaluate your idea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EFF7-4338-4133-AE4F-52ACA042EC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ctivity 2</a:t>
            </a:r>
            <a:br>
              <a:rPr sz="2400"/>
            </a:b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igging Deeper into Argumentation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ep 1: Digging Deeper Into Argu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– Module 9.06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different ways do you create and support the construction and evaluation of arguments in your classroo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t what points do they have problems in creating and supporting a clear argument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do you address these problem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5DA9-EEB7-41FC-8A2D-C3FE3C4FD2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stephanie.georges</cp:lastModifiedBy>
  <dcterms:modified xsi:type="dcterms:W3CDTF">2009-01-21T03:17:59Z</dcterms:modified>
  <cp:revision>175</cp:revision>
  <dc:subject/>
  <dc:title>Presentation Title Goes Here</dc:title>
</cp:coreProperties>
</file>